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5A8-0DA0-4548-8C6E-E79D10F5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030-23C7-49F9-9D67-F1F30BC6606A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F57-0EB3-4E51-92C3-407BA3A48B45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C610-9A3E-4B4F-BC12-E74D814C5FC9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649-BC10-4C13-87CC-F9BBC1154C0E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702-8A63-487C-8F3B-FC768D48DFA5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AC91-55DC-4226-9781-DA2315D2E6AF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3BB5-1880-4D73-95E4-A5CE77944C3E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C22D-6B8B-4DD4-92DB-08C3D5355231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EAF6-D000-4C7A-81DE-17AA9516F6AC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0C3F-D446-4EFF-A6A9-4D97566806A8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AB91-EDAB-4AD0-BEF7-E07915609F33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9D0-FFD2-46C2-B8FA-B9E83931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081-101B-4C5B-80C9-7CD8FCAA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71E-3C12-43FE-BCE8-63FE8196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946-2000-4667-912B-57AD061F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7E9C-3349-41D0-8372-D288D636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8C3A-7939-45CD-8435-92F0130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F6D1-43B9-47F3-87CC-69375D4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FBD-5B7D-498D-9922-621E6D6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89C4-517C-4FD0-B375-45313A83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5867-CCB4-43FF-845E-F0BA4A4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EC5-CD13-4DA2-9EF3-7F8DC8A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A9E-5581-4F7D-AC67-920292F5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38E-DD0B-41B0-9BA5-A6BAD4BE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393D-360F-4748-A0D9-8A5B888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C9F-F49E-487B-810E-27EF672F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22A2-4D95-4AF6-B034-23B7D4B0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568-EDEF-4FA2-9191-D29D7110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BAF-01DB-4190-A17D-08B9DB38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FF5-A581-4582-A560-952F0F9B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A17-2822-4FB7-8360-34FDA28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6C0-7ACF-4B8D-9740-CC9FC3F8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1B7-A29A-4AEA-9BC8-818EC7EA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3CE-923A-4062-AE15-D914BB0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EFB-6BA9-467E-9FEA-B4771D3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DE4-2C0F-4088-A1AD-1ADD9333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841-034E-4A79-8CC6-300D7024D88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counting Terminology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3720"/>
            <a:ext cx="86774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mounts owed by a company to anoth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abiliti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 of Sales divided by Average Invento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ventory turnover rat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s that usually stay the same (Salaries, Rent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xed costs or expens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O   and LIF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rst in first out; Last in first out (Inventory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3720"/>
            <a:ext cx="844884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 expense that reflects the loss in value of a fixed asse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epreci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G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st of Goods Sol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RICT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ethods for analyzing capital investing, Flexibility, Risk, Income, Control, Time, &amp; Oth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ngs of value owned by the company that can be converted to cash in one year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urrent Asse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fits not distributed to shareholders as dividends, the accumulation of a company's profits less dividen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tained Revenu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amounts received by or due a company for goods or services it provides to customers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venue or sal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oney spent making a produ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st that changes as sales or production change. If a business is producing nothing and selling nothing, this should be zer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ariable cos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hronological accounting record of an entity’s transaction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ourna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measure of how easily a company can turn their assets into cash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profit earned before taxes are deducted and interest is calculated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B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inancial statement that shows a company’s stated value at a specific point in tim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ccounting system that records a business event as it happens, regardless of whether it affects cash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rual Accounting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measure of how easily a company can turn their assets into cash (Ratio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urrent Rat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market price of a share of stock divided by the earnings (profit) per shar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ice/Earnings ratio  (p/e ratio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st of all accounts and their account numbers in the ledger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hart of Accou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most basic form of equity security in a corporation, giving the owner certain righ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mmon Stoc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orm of equity (stock) that that may carry certain preferences agreed upon with the own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ferred Stoc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93720"/>
            <a:ext cx="852516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ratio calculated by dividing accounts receivable by total annual credit sales and multiplying the result by 365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S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Gross profit divided by net sa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ross Margi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t income divide by total equ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O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72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value of an investment after a specific period of time at a certain rate of interest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uture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difference between a firms stated assets and stated liabiliti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ook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sales volume necessary for a firm to begin generating profi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reak even poin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name given to the set of ratios often used in assessing the company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upont Ratio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et profit divided by equit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OE   ROI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concept that compares the value of money available in the future to the value of cash in hand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sent valu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9:18:28Z</dcterms:created>
  <dc:creator>User</dc:creator>
  <dc:description/>
  <dc:language>en-US</dc:language>
  <cp:lastModifiedBy>User</cp:lastModifiedBy>
  <dcterms:modified xsi:type="dcterms:W3CDTF">2009-01-27T14:13:01Z</dcterms:modified>
  <cp:revision>4</cp:revision>
  <dc:subject/>
  <dc:title>Accounting Terminolog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